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4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4c79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180D-881F-4AEA-A2C5-29C9D3961C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A417-DA12-47C6-9D80-C007513EA9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0758-9671-4B8D-B383-28D169E9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0A7-BB18-4D29-915F-14717F68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B4D-B0FB-4180-90CF-34BCACC0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7CD-6164-4EE1-A636-DCDE9C66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2CB6-0F9C-47E3-B82A-C55091F5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2FFC-6DF6-4792-8108-E988F24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9771-6FCF-4057-8E4A-E4CD5FB7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65D7-30C6-4078-830B-638894FB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0810-31C4-4C76-8ADE-247F4F9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93D9-B896-42E0-BED7-F410209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8471-6FF8-41CB-8CEC-BAF4522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DA1-E3C7-46D3-AC15-B5CAB3DC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4EE-6E12-4154-8FCB-C82F70C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967A-D7FE-477A-9600-EB322EA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1B9D-2565-48F5-83EC-D1D39E87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76A6-2AEF-4646-ACD6-86BEB14D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4115-4CCF-4E7E-B7D3-B2BB9CF3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1D32-976D-48F6-A2C9-9CC1B063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0EB5-7003-42E1-ABD8-D5FA8B3C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AB67-643E-4631-9547-DD715F43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557D1-A9DB-4D30-8A4B-D4BB6D48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92ADA-F753-40B5-A4C8-6668ABE4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9C8-7182-41BA-86E9-EFA5E48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16DDA-A529-4817-8B1D-E35BE82F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132A-068D-4A3E-85E5-C230733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7E016-84B7-4E7B-A0B0-6585D3A9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6E09-48C0-4912-B600-13A13738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9E692-3EF4-4613-88C8-0DBAA7D0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97DF9-CF56-4D7D-BB3A-4C85296A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19BD4-6C76-49C9-94EE-0D41069D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E172-9FB1-4AA0-BDC1-06B5D119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49FD-1A3A-4C2E-AE86-D935E0E2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802AD-522F-4051-AE4A-1937280D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2B1-793B-4BB5-A265-447CC75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C614-807C-4B7D-A105-7276B182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362B-464E-40EA-99D0-FC3E6A44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8DFA-321B-4B74-84B8-F98572FC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E493-E7D8-40CC-A32F-2124508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A8618-154B-42F8-8168-4B79463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5364-6B1F-4FAD-A136-9C059AF9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C986E-3501-452B-A550-2A6D45E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FA21-DB6C-46BC-8644-AD5EBAE7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27BE-C550-4E5B-85A7-6DD81E5F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79624-4032-4A00-8470-6685101A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A25-2934-4ADE-8BE4-3F94560B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E5537-A5EE-406C-AE69-B918F1B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BE39-6E42-4411-AF7F-BE892E2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8DDE3-7823-4DDE-8BF7-70ED8BA8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1B2C2-CDE1-469C-BE55-BB97144C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C9B3C-FB56-421D-ACA3-0AAA5F06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1994-D5F6-4D00-8783-BB283E19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874A5-C8AB-4794-A6C5-0A08F6A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84D60-66AB-4C37-A372-85DE7B6A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B631-1B93-421E-AD92-2200E64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6E4FD-4A14-4652-9C66-F4D93AA2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A80-6432-4014-AADD-A2BDA250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A9BF-5D61-41D3-99D2-F31391EC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A93-5887-49FC-817C-43430E3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9CF-A303-4942-9E7F-2BFBBFBE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3C7-7FAD-49A0-AD02-7F12056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4c79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6775-880F-4527-BD2C-EB470106BC1E}" type="slidenum">
              <a:rPr b="0" lang="ru-RU" sz="1000" spc="-1" strike="noStrike">
                <a:solidFill>
                  <a:srgbClr val="bbb8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4c79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2BC4-434B-447E-A04B-83B4D05045C5}" type="slidenum">
              <a:rPr b="0" lang="ru-RU" sz="1000" spc="-1" strike="noStrike">
                <a:solidFill>
                  <a:srgbClr val="bbb8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4c79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E135-6D91-4BA8-BB81-5B0C59A78B66}" type="slidenum">
              <a:rPr b="0" lang="ru-RU" sz="1000" spc="-1" strike="noStrike">
                <a:solidFill>
                  <a:srgbClr val="bbb8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4c79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368E-CECA-4E25-A879-AB9EA217FB8B}" type="slidenum">
              <a:rPr b="0" lang="ru-RU" sz="1000" spc="-1" strike="noStrike">
                <a:solidFill>
                  <a:srgbClr val="bbb8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4c79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a5b592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b00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b00d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f5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CBB9-B30C-440E-973C-11BA55A0F505}" type="slidenum">
              <a:rPr b="0" lang="ru-RU" sz="1000" spc="-1" strike="noStrike">
                <a:solidFill>
                  <a:srgbClr val="bbb893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41440" y="571680"/>
            <a:ext cx="7991280" cy="2712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00000"/>
                </a:solidFill>
                <a:latin typeface="Arial"/>
              </a:rPr>
              <a:t>Проект 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c00000"/>
                </a:solidFill>
                <a:latin typeface="Arial"/>
              </a:rPr>
              <a:t>по  патриотическому воспитанию  в ДОУ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363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2" descr="Russianf"/>
          <p:cNvPicPr/>
          <p:nvPr/>
        </p:nvPicPr>
        <p:blipFill>
          <a:blip r:embed="rId1"/>
          <a:stretch/>
        </p:blipFill>
        <p:spPr>
          <a:xfrm>
            <a:off x="539640" y="3860640"/>
            <a:ext cx="2928960" cy="1760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gerb"/>
          <p:cNvPicPr/>
          <p:nvPr/>
        </p:nvPicPr>
        <p:blipFill>
          <a:blip r:embed="rId2"/>
          <a:stretch/>
        </p:blipFill>
        <p:spPr>
          <a:xfrm>
            <a:off x="6012000" y="3716280"/>
            <a:ext cx="273816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1857240" y="564372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абенко  Юлия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44751630"/>
          <p:cNvPicPr/>
          <p:nvPr/>
        </p:nvPicPr>
        <p:blipFill>
          <a:blip r:embed="rId1"/>
          <a:srcRect l="0" t="0" r="882" b="5906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Заголовок 1"/>
          <p:cNvSpPr/>
          <p:nvPr/>
        </p:nvSpPr>
        <p:spPr>
          <a:xfrm>
            <a:off x="2340000" y="836640"/>
            <a:ext cx="6516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25e14"/>
                </a:solidFill>
                <a:latin typeface="Times New Roman"/>
              </a:rPr>
              <a:t>Содержательные линии проек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1258920" y="1628640"/>
            <a:ext cx="698508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lvl="3" marL="1600200" indent="-228600" algn="ctr">
              <a:lnSpc>
                <a:spcPct val="100000"/>
              </a:lnSpc>
              <a:spcBef>
                <a:spcPts val="224"/>
              </a:spcBef>
              <a:buSzPct val="11518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Образовательная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содержит идеи, идеи теории, законы и закономерности, характеризующие культурные, исторические, географические особенности нашей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Ценностная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редполагает формирование краеведческого мировоззрения, ориентацию на ценности культуры народов России, на её изучение, сохран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Деятельная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собствует становлению культуросообразного поведения с учётом особенностей семьи, в единстве разнообразных видов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Творческая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атривает развитие творческих способностей детей, исследовательских умений, самообразования средствами краеведческого компон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4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411280" y="1052640"/>
            <a:ext cx="577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лан реализации образовательног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I этап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 – аналитико-прогностический (подготовительны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Подготовительные мероприят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II этап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 – рабочий (внедренческий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1- работа с деть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2  – работа с родител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3 – работа с педагог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III этап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 – коррекционны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и корректировка содержания методов и приёмов работы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 конце каждого учебн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IV этап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 – обобщающий в конце каждого учебн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116000" y="494172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етоды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Познавательно-игровые занятия, целевые прогулки, экскурсии, наблюдения, 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Picture 4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900000" y="449280"/>
            <a:ext cx="741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99"/>
                </a:solidFill>
                <a:uFillTx/>
                <a:latin typeface="Times New Roman"/>
              </a:rPr>
              <a:t>Стратегия осуществления проектной деятельности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проект осуществляется в рама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дагогической системы МБДОУ Детск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ад №45 «Теремок» комбинированного ти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детьми — в различных видах деятельности, н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ует специально организованных занятий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материал по каждой теме включается в алгоритм недели); с педагогами — в условиях проведения методическ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одителями — в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Материально-технические ресур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 необходимые для выполнения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бор исторической лит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бор произведений русского народного творч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бор наглядного материала (иллюстрации, фотографии, зарисовки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разного вида бросового матери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готовка изобразительного материала для продуктивной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дактические 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тавки книг, рисунков, поде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проведения открытых мероприятий (оформление групповой комнаты, музыкального зал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4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3497400" y="6922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ы реализаци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1042920" y="1197000"/>
            <a:ext cx="73486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инцип личностно-ориентированного общ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дивидуально- личностное формирование и развит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ого облика человека. В процессе обучения де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тупают с педагогом, а не просто пассивно перенимают его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. Партнерство, соучастие 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оритетные формы общения педагога с деть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инцип тематического планирования материал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предполагает подачу изучаемого материала по тематическим блокам: родная семья, детский сад, родной город, родная страна, родная природа, родная культу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инцип нагляднос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широкое представление соответствующей изучаемому материалу наглядности: иллюстрации, фотографии пейзажей, памятников, достопримечательнос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инцип последова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предполагает планирование изучаемого познавательного материала последовательно (от простого к сложному), чтобы дети усваивали знания постепенно, в определенной систем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Принцип занимательност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зучаемый материал должен быть интересным, увлекательным для детей, этот принцип формирует у детей желание выполнять предполагаемые виды заданий, стремиться к достижению результ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4c79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2"/>
          <a:srcRect l="0" t="0" r="-593" b="8179"/>
          <a:stretch/>
        </p:blipFill>
        <p:spPr>
          <a:xfrm>
            <a:off x="3276720" y="836640"/>
            <a:ext cx="4752720" cy="52563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1042920" y="306864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нцеп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равстве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атрио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дошколь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03280" y="529920"/>
            <a:ext cx="8183520" cy="475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атриотическое воспитание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 систематическая деятельность педагогов по формированию у юных граждан патриотического сознания, ценностей, чувства верности своему Отечеству, готовности к выполнению гражданского долга</a:t>
            </a:r>
            <a:r>
              <a:rPr b="1" lang="ru-RU" sz="37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6"/>
          <p:cNvSpPr/>
          <p:nvPr/>
        </p:nvSpPr>
        <p:spPr>
          <a:xfrm>
            <a:off x="1116000" y="765000"/>
            <a:ext cx="72500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ые результаты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- Овладение детьми знаниями собственной истории (семьи, рода, фамилии)- составление «родословного древа», альбом «История моей семьи», знаниями о своём городе - о «малой родине»: история, культура, традиции, достижения, своей стр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- сформированность патриотических чувств в процессе реализации данных це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- приобщение детей к истокам народной культуры ,знакомство детей с народными праздниками и обрядами – Рождество, Масленица, Пас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- посещение Русской избы, знакомство с русским бы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-пробуждение интереса к истории, культуре своей Родины, православным традициям, любви к родному кра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-доброжелательные отношения между дет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-высокий уровень нравственных качеств личност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b4c79d"/>
              </a:solidFill>
              <a:latin typeface="Verdana"/>
            </a:endParaRPr>
          </a:p>
        </p:txBody>
      </p:sp>
      <p:pic>
        <p:nvPicPr>
          <p:cNvPr id="284" name="Picture 5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6"/>
          <p:cNvSpPr/>
          <p:nvPr/>
        </p:nvSpPr>
        <p:spPr>
          <a:xfrm>
            <a:off x="2916360" y="692280"/>
            <a:ext cx="54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ормы взаимодействия  с детьм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непосредственная 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овместная деятельность детей и педагогов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2222"/>
          <p:cNvPicPr/>
          <p:nvPr/>
        </p:nvPicPr>
        <p:blipFill>
          <a:blip r:embed="rId2"/>
          <a:stretch/>
        </p:blipFill>
        <p:spPr>
          <a:xfrm>
            <a:off x="1116000" y="3646440"/>
            <a:ext cx="3311640" cy="2749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p42_clip_image003"/>
          <p:cNvPicPr/>
          <p:nvPr/>
        </p:nvPicPr>
        <p:blipFill>
          <a:blip r:embed="rId3"/>
          <a:stretch/>
        </p:blipFill>
        <p:spPr>
          <a:xfrm>
            <a:off x="4572000" y="1844640"/>
            <a:ext cx="36352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5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987640" y="83664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экскурсии и целевые прогу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p42_clip_image005"/>
          <p:cNvPicPr/>
          <p:nvPr/>
        </p:nvPicPr>
        <p:blipFill>
          <a:blip r:embed="rId2"/>
          <a:stretch/>
        </p:blipFill>
        <p:spPr>
          <a:xfrm>
            <a:off x="2916360" y="1197000"/>
            <a:ext cx="3809880" cy="26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p42_clip_image007"/>
          <p:cNvPicPr/>
          <p:nvPr/>
        </p:nvPicPr>
        <p:blipFill>
          <a:blip r:embed="rId3"/>
          <a:stretch/>
        </p:blipFill>
        <p:spPr>
          <a:xfrm>
            <a:off x="5003640" y="3933720"/>
            <a:ext cx="3391200" cy="2610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img6"/>
          <p:cNvPicPr/>
          <p:nvPr/>
        </p:nvPicPr>
        <p:blipFill>
          <a:blip r:embed="rId4"/>
          <a:stretch/>
        </p:blipFill>
        <p:spPr>
          <a:xfrm>
            <a:off x="900000" y="3860640"/>
            <a:ext cx="36576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3"/>
          <p:cNvSpPr/>
          <p:nvPr/>
        </p:nvSpPr>
        <p:spPr>
          <a:xfrm>
            <a:off x="2908800" y="693720"/>
            <a:ext cx="38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ассказы о православных праздни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великих людях Росси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p42_clip_image009"/>
          <p:cNvPicPr/>
          <p:nvPr/>
        </p:nvPicPr>
        <p:blipFill>
          <a:blip r:embed="rId2"/>
          <a:stretch/>
        </p:blipFill>
        <p:spPr>
          <a:xfrm>
            <a:off x="4716360" y="1413000"/>
            <a:ext cx="3087720" cy="2239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getImage?photoId=547963066751&amp;photoType=13"/>
          <p:cNvPicPr/>
          <p:nvPr/>
        </p:nvPicPr>
        <p:blipFill>
          <a:blip r:embed="rId3"/>
          <a:stretch/>
        </p:blipFill>
        <p:spPr>
          <a:xfrm>
            <a:off x="5076720" y="3933720"/>
            <a:ext cx="2590920" cy="2362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IMG_0215"/>
          <p:cNvPicPr/>
          <p:nvPr/>
        </p:nvPicPr>
        <p:blipFill>
          <a:blip r:embed="rId4"/>
          <a:stretch/>
        </p:blipFill>
        <p:spPr>
          <a:xfrm>
            <a:off x="900000" y="3141720"/>
            <a:ext cx="37432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4353480" y="765000"/>
            <a:ext cx="38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чтение художественной литера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ассматривание карт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отечественных худо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P5160092"/>
          <p:cNvPicPr/>
          <p:nvPr/>
        </p:nvPicPr>
        <p:blipFill>
          <a:blip r:embed="rId2"/>
          <a:stretch/>
        </p:blipFill>
        <p:spPr>
          <a:xfrm>
            <a:off x="4500720" y="1700280"/>
            <a:ext cx="3454200" cy="25905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1618560" y="5734080"/>
            <a:ext cx="261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бесе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итуативные разговоры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" descr="p42_clip_image013"/>
          <p:cNvPicPr/>
          <p:nvPr/>
        </p:nvPicPr>
        <p:blipFill>
          <a:blip r:embed="rId3"/>
          <a:stretch/>
        </p:blipFill>
        <p:spPr>
          <a:xfrm>
            <a:off x="1187280" y="2997360"/>
            <a:ext cx="3065760" cy="2620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p42_clip_image015"/>
          <p:cNvPicPr/>
          <p:nvPr/>
        </p:nvPicPr>
        <p:blipFill>
          <a:blip r:embed="rId4"/>
          <a:stretch/>
        </p:blipFill>
        <p:spPr>
          <a:xfrm>
            <a:off x="4572000" y="4653000"/>
            <a:ext cx="2530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8" descr="44751630"/>
          <p:cNvPicPr/>
          <p:nvPr/>
        </p:nvPicPr>
        <p:blipFill>
          <a:blip r:embed="rId1"/>
          <a:srcRect l="0" t="0" r="3540" b="66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492360" y="620280"/>
            <a:ext cx="4608720" cy="208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a5b592"/>
                </a:solidFill>
                <a:latin typeface="Times New Roman"/>
              </a:rPr>
              <a:t>Если не мы, то кто ж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b592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a5b592"/>
                </a:solidFill>
                <a:latin typeface="Times New Roman"/>
              </a:rPr>
              <a:t>Детям нашим помож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b592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a5b592"/>
                </a:solidFill>
                <a:latin typeface="Times New Roman"/>
              </a:rPr>
              <a:t>Россию любить и зна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b592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a5b592"/>
                </a:solidFill>
                <a:latin typeface="Times New Roman"/>
              </a:rPr>
              <a:t>Как важно – не опоздать!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a5b59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851280" y="2637000"/>
            <a:ext cx="48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«Только тот, кто любит, ценит и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  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уважает накопленное и сохран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едшествующим поколением,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может любить Родину, узнать её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тать подлинным патриот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С. Михалк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067280" y="472428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нашей стране и под ва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уководством растет буд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ражданин. Все, что соверш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стране, через вашу душу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ашу мысль должно приходить к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. С. Макарен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3202920" y="692280"/>
            <a:ext cx="45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лушание музыки, праздники и развл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p42_clip_image017"/>
          <p:cNvPicPr/>
          <p:nvPr/>
        </p:nvPicPr>
        <p:blipFill>
          <a:blip r:embed="rId2"/>
          <a:stretch/>
        </p:blipFill>
        <p:spPr>
          <a:xfrm>
            <a:off x="3419640" y="1052640"/>
            <a:ext cx="4140000" cy="2647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p42_clip_image019"/>
          <p:cNvPicPr/>
          <p:nvPr/>
        </p:nvPicPr>
        <p:blipFill>
          <a:blip r:embed="rId3"/>
          <a:stretch/>
        </p:blipFill>
        <p:spPr>
          <a:xfrm>
            <a:off x="4859280" y="3933720"/>
            <a:ext cx="3429000" cy="2371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p42_clip_image021"/>
          <p:cNvPicPr/>
          <p:nvPr/>
        </p:nvPicPr>
        <p:blipFill>
          <a:blip r:embed="rId4"/>
          <a:stretch/>
        </p:blipFill>
        <p:spPr>
          <a:xfrm>
            <a:off x="900000" y="3860640"/>
            <a:ext cx="377208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2782080" y="790560"/>
            <a:ext cx="559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</a:rPr>
              <a:t>игры (дидактические, ролевые, хороводные, подвижные и др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p42_clip_image023"/>
          <p:cNvPicPr/>
          <p:nvPr/>
        </p:nvPicPr>
        <p:blipFill>
          <a:blip r:embed="rId2"/>
          <a:stretch/>
        </p:blipFill>
        <p:spPr>
          <a:xfrm>
            <a:off x="2987640" y="1341360"/>
            <a:ext cx="3781440" cy="2311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p42_clip_image025"/>
          <p:cNvPicPr/>
          <p:nvPr/>
        </p:nvPicPr>
        <p:blipFill>
          <a:blip r:embed="rId3"/>
          <a:stretch/>
        </p:blipFill>
        <p:spPr>
          <a:xfrm>
            <a:off x="5076720" y="3716280"/>
            <a:ext cx="3200400" cy="26100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6"/>
          <p:cNvSpPr/>
          <p:nvPr/>
        </p:nvSpPr>
        <p:spPr>
          <a:xfrm>
            <a:off x="971640" y="2852640"/>
            <a:ext cx="19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труд де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помощь старш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7" descr="p42_clip_image027"/>
          <p:cNvPicPr/>
          <p:nvPr/>
        </p:nvPicPr>
        <p:blipFill>
          <a:blip r:embed="rId4"/>
          <a:stretch/>
        </p:blipFill>
        <p:spPr>
          <a:xfrm>
            <a:off x="1042920" y="3789360"/>
            <a:ext cx="3529080" cy="2479680"/>
          </a:xfrm>
          <a:prstGeom prst="rect">
            <a:avLst/>
          </a:prstGeom>
          <a:ln w="0">
            <a:noFill/>
          </a:ln>
        </p:spPr>
      </p:pic>
      <p:sp>
        <p:nvSpPr>
          <p:cNvPr id="315" name="Line 8"/>
          <p:cNvSpPr/>
          <p:nvPr/>
        </p:nvSpPr>
        <p:spPr>
          <a:xfrm>
            <a:off x="1835280" y="3429000"/>
            <a:ext cx="0" cy="2872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7524720" y="1125360"/>
            <a:ext cx="216000" cy="2590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"/>
          <p:cNvSpPr/>
          <p:nvPr/>
        </p:nvSpPr>
        <p:spPr>
          <a:xfrm flipH="1">
            <a:off x="6804000" y="1125360"/>
            <a:ext cx="936720" cy="79092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i?id=100777283-10-72&amp;n=21"/>
          <p:cNvPicPr/>
          <p:nvPr/>
        </p:nvPicPr>
        <p:blipFill>
          <a:blip r:embed="rId2"/>
          <a:stretch/>
        </p:blipFill>
        <p:spPr>
          <a:xfrm>
            <a:off x="1116000" y="299736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img3"/>
          <p:cNvPicPr/>
          <p:nvPr/>
        </p:nvPicPr>
        <p:blipFill>
          <a:blip r:embed="rId3"/>
          <a:stretch/>
        </p:blipFill>
        <p:spPr>
          <a:xfrm>
            <a:off x="4211640" y="3789360"/>
            <a:ext cx="3571920" cy="2523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i?id=417887349-63-72&amp;n=21"/>
          <p:cNvPicPr/>
          <p:nvPr/>
        </p:nvPicPr>
        <p:blipFill>
          <a:blip r:embed="rId4"/>
          <a:stretch/>
        </p:blipFill>
        <p:spPr>
          <a:xfrm>
            <a:off x="4643280" y="105264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3200760" y="765000"/>
            <a:ext cx="503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Формы взаимодействия  с родителям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родительские соб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овместные праздники и досу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совместные экскурсии и целевые прогул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консультации  по проблемам воспитания детей;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img1"/>
          <p:cNvPicPr/>
          <p:nvPr/>
        </p:nvPicPr>
        <p:blipFill>
          <a:blip r:embed="rId2"/>
          <a:stretch/>
        </p:blipFill>
        <p:spPr>
          <a:xfrm>
            <a:off x="1042920" y="3933720"/>
            <a:ext cx="3027600" cy="2270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orig_3099c9bb3d31466de69f1600f207a35c"/>
          <p:cNvPicPr/>
          <p:nvPr/>
        </p:nvPicPr>
        <p:blipFill>
          <a:blip r:embed="rId3"/>
          <a:stretch/>
        </p:blipFill>
        <p:spPr>
          <a:xfrm>
            <a:off x="4572000" y="2708280"/>
            <a:ext cx="30607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4142880" y="692280"/>
            <a:ext cx="33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еемстве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ДОУ и началь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атриотическому воспит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 flipV="1" rot="10800000">
            <a:off x="900000" y="4220640"/>
            <a:ext cx="7421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</a:rPr>
              <a:t>Преемственность патриотического воспитания детей в ДОУ и начальной школе в этом смысле означает не только подготовку к новому, но и, что еще более важно и существенно, сохранение и развитие необходимого и целесообразного старого. Решение указанной проблемы может быть достигнуто различными способами. На наш взгляд, они должны включать комплекс нормативно-правовых, управленческих, организационно-методических, информационно-просветительских мероприятий по дальнейшему развитию и совершенствованию системы патриотического вос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5" descr="P5290001"/>
          <p:cNvPicPr/>
          <p:nvPr/>
        </p:nvPicPr>
        <p:blipFill>
          <a:blip r:embed="rId2"/>
          <a:stretch/>
        </p:blipFill>
        <p:spPr>
          <a:xfrm>
            <a:off x="2411280" y="2565360"/>
            <a:ext cx="2376720" cy="16556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6" descr="i (3).jpg"/>
          <p:cNvPicPr/>
          <p:nvPr/>
        </p:nvPicPr>
        <p:blipFill>
          <a:blip r:embed="rId3"/>
          <a:stretch/>
        </p:blipFill>
        <p:spPr>
          <a:xfrm>
            <a:off x="5435640" y="2133720"/>
            <a:ext cx="2913120" cy="2133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7"/>
          <p:cNvSpPr/>
          <p:nvPr/>
        </p:nvSpPr>
        <p:spPr>
          <a:xfrm>
            <a:off x="4572000" y="3789360"/>
            <a:ext cx="1071720" cy="485640"/>
          </a:xfrm>
          <a:prstGeom prst="leftRightArrow">
            <a:avLst>
              <a:gd name="adj1" fmla="val 50000"/>
              <a:gd name="adj2" fmla="val 43932"/>
            </a:avLst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44751630"/>
          <p:cNvPicPr/>
          <p:nvPr/>
        </p:nvPicPr>
        <p:blipFill>
          <a:blip r:embed="rId1"/>
          <a:srcRect l="0" t="0" r="863" b="59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3851280" y="3068640"/>
            <a:ext cx="32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imes New Roman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Times New Roman"/>
              </a:rPr>
              <a:t>за внима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44751630"/>
          <p:cNvPicPr/>
          <p:nvPr/>
        </p:nvPicPr>
        <p:blipFill>
          <a:blip r:embed="rId1"/>
          <a:srcRect l="0" t="0" r="0" b="6598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6" name="Содержимое 2"/>
          <p:cNvSpPr/>
          <p:nvPr/>
        </p:nvSpPr>
        <p:spPr>
          <a:xfrm>
            <a:off x="3132000" y="692280"/>
            <a:ext cx="4691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258920" y="907920"/>
            <a:ext cx="6985080" cy="55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КТУАЛЬНОСТЬ ТЕМЫ ПРОЕКТ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атриотическое воспитание –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систематическая деятельность педагог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по формированию у юных гражд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триотического сознания, ценностей,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в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ерности своему Отечеству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товности к выполнению гражданского дол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атриотиз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юбовь к Родине, преданность ей, ответственность и гордость за нее, желание трудиться на ее благо, беречь и умножать ее богатство – начинает формироваться уже в дошкольном возрасте. Невозможно воспитать чувство собственного достоинства, уверенность в себе, следовательно, полноценную личность, без уважения к истории и культуре своего Отечества, к его государственной символике. / «Концепция патриотического воспитания граждан РФ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44751630"/>
          <p:cNvPicPr/>
          <p:nvPr/>
        </p:nvPicPr>
        <p:blipFill>
          <a:blip r:embed="rId1"/>
          <a:srcRect l="0" t="0" r="-384" b="74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900000" y="692280"/>
            <a:ext cx="727236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триотизм, применительно к ребёнку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ршего дошкольного возраст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яется, как  потребность участвов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о всех  делах на благо семьи, детского сад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ного город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ны, представителей живой природы, наличие у детей таких качеств, как сострадание, сочувствие, чувство собственного достоинства и осознание себя частью окружающего мир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чувства патриотизма и любви к Родине традиционно решалось в ДОУ, но результаты исследования показали, что необходимо усилить работу в данном направлении . Поэтому было принято решение, изменить форму организации образовательного процесса и решением данной проблемы стала реализация проект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Родину свою я знаю и люблю!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 как метод проектов позволяет дошкольникам усвоить сложный краеведческий материал, через совместный поиск решения проблемы, тем самым мотивировать познавательный интерес, развивать творческие способности детей и самому педагогу повысить свою компетен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44751630"/>
          <p:cNvPicPr/>
          <p:nvPr/>
        </p:nvPicPr>
        <p:blipFill>
          <a:blip r:embed="rId1"/>
          <a:srcRect l="0" t="0" r="0" b="6598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1" name="Содержимое 2"/>
          <p:cNvSpPr/>
          <p:nvPr/>
        </p:nvSpPr>
        <p:spPr>
          <a:xfrm>
            <a:off x="3132000" y="692280"/>
            <a:ext cx="4691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619280" y="1125360"/>
            <a:ext cx="6634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оспитание патриотических и гражданских чувств, чувства любви к Родине, родному краю; духовно-нравственное  развитие и воспитание детей, формирование основополагающих морально – нравственных идеалов, сопричастности к  родному дому, семье, детскому саду, Ро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44751630"/>
          <p:cNvPicPr/>
          <p:nvPr/>
        </p:nvPicPr>
        <p:blipFill>
          <a:blip r:embed="rId1"/>
          <a:srcRect l="0" t="0" r="0" b="6598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4" name="Содержимое 2"/>
          <p:cNvSpPr/>
          <p:nvPr/>
        </p:nvSpPr>
        <p:spPr>
          <a:xfrm>
            <a:off x="3132000" y="692280"/>
            <a:ext cx="4691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22920" y="141300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111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900000" y="2421000"/>
            <a:ext cx="748836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c376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4c376b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76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376b"/>
                </a:solidFill>
                <a:latin typeface="Times New Roman"/>
              </a:rPr>
              <a:t>развивать личность, обладающую качествами гражданина- патриота Роди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4c376b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376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376b"/>
                </a:solidFill>
                <a:latin typeface="Times New Roman"/>
              </a:rPr>
              <a:t>расширять знания  о родной республике, го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376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376b"/>
                </a:solidFill>
                <a:latin typeface="Times New Roman"/>
              </a:rPr>
              <a:t>воспитывать гордость за героическое прошлое, историческое и культурное наследие на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4c376b"/>
              </a:buClr>
              <a:buSzPct val="112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c376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4c376b"/>
                </a:solidFill>
                <a:latin typeface="Times New Roman"/>
              </a:rPr>
              <a:t>формировать духовно-нравственное отношение к природе родного края и чувство сопричастности к н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44751630"/>
          <p:cNvPicPr/>
          <p:nvPr/>
        </p:nvPicPr>
        <p:blipFill>
          <a:blip r:embed="rId1"/>
          <a:srcRect l="0" t="0" r="0" b="6598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Содержимое 2"/>
          <p:cNvSpPr/>
          <p:nvPr/>
        </p:nvSpPr>
        <p:spPr>
          <a:xfrm>
            <a:off x="3708360" y="620640"/>
            <a:ext cx="4691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835280" y="1628640"/>
            <a:ext cx="6840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512f6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2f6b"/>
                </a:solidFill>
                <a:latin typeface="Times New Roman"/>
              </a:rPr>
              <a:t>воспитывать любовь, уважение к своей нации, понимание своих национальных особенностей, чувство собственного достоинства, как представителя своего народа, и толерантного отношения к представителям других национальностей (сверстникам и их родителям, соседям и другим людя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512f6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12f6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2f6b"/>
                </a:solidFill>
                <a:latin typeface="Times New Roman"/>
              </a:rPr>
              <a:t>формировать у детей и их родителей интерес к изучению истории своей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12f6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12f6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12f6b"/>
                </a:solidFill>
                <a:latin typeface="Times New Roman"/>
              </a:rPr>
              <a:t>развивать творческие способности детей, умение выражать своё отношение к увиденному через рисунки, написание рассказов,   изготовление подел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12f6b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994560" y="83664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44751630"/>
          <p:cNvPicPr/>
          <p:nvPr/>
        </p:nvPicPr>
        <p:blipFill>
          <a:blip r:embed="rId1"/>
          <a:srcRect l="0" t="0" r="0" b="6598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3" name="Содержимое 2"/>
          <p:cNvSpPr/>
          <p:nvPr/>
        </p:nvSpPr>
        <p:spPr>
          <a:xfrm>
            <a:off x="3132000" y="692280"/>
            <a:ext cx="4691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684360" y="692280"/>
            <a:ext cx="784836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АСПОРТ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аименование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льтурно-образовательны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 в сфере патриотическо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я подрастающего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оления: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Родину свою я знаю и люблю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ид проекта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евой, творческ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ко- ориентированный, культурно-просветите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Тип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о- взрос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ебенок – субъект проект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ткрытый- в ДОУ и за его преде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44751630"/>
          <p:cNvPicPr/>
          <p:nvPr/>
        </p:nvPicPr>
        <p:blipFill>
          <a:blip r:embed="rId1"/>
          <a:srcRect l="0" t="0" r="0" b="6598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6" name="Содержимое 2"/>
          <p:cNvSpPr/>
          <p:nvPr/>
        </p:nvSpPr>
        <p:spPr>
          <a:xfrm>
            <a:off x="3132000" y="692280"/>
            <a:ext cx="4691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87280" y="1052640"/>
            <a:ext cx="7201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География проек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гинский муниципальный район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Продолжительност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ок реализаци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года ( с 1.09.12 по 1.09.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Участники проек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ект рассчитан на  детей старших и подготовительных групп, родителей и педагогов МБДОУ д/с № 45 «Теремок» комбинированного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нтегрируемые образовательные обла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«Познание», «Коммуникация», «Чтение художественной литературы», «Художественное творчество», «Музыка», «Здоровье», «Физическая культура», «Безопасность», «Социализац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5:04:01Z</dcterms:created>
  <dc:creator>Нина</dc:creator>
  <dc:description/>
  <dc:language>en-US</dc:language>
  <cp:lastModifiedBy>Дима</cp:lastModifiedBy>
  <dcterms:modified xsi:type="dcterms:W3CDTF">2020-02-13T21:06:15Z</dcterms:modified>
  <cp:revision>28</cp:revision>
  <dc:subject/>
  <dc:title>Слайд 1</dc:title>
</cp:coreProperties>
</file>